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1AD-4745-4AC6-9132-6C458B6E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DB0-CAD5-4AE9-923B-601B658F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B53-60E8-4E31-A4CD-7345D46D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73E-5396-4467-97EE-C539BE06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709-3156-457D-8043-2421873C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90B-4386-4DC8-A033-8699BAE2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21D-CEB1-4CB7-A322-E7A887D5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7BC-6199-4DF8-AFA4-B843134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5CC-0060-437E-8537-0FEFC914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F14-0F72-4C8B-B7DE-AB6F8DE6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5F0-3F8B-40CA-B3E2-E642904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783-A676-4422-9413-E24870E4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F1FC-99F2-4E5F-AD0F-2CFFF266A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649600" y="20196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редняя общеобразовательная школа №5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Красноярс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479520" y="520812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 проек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жкова Виктория Викторовна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8090640" y="4233960"/>
            <a:ext cx="35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или учащие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баро Татьяна 7а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ракова Арина 7а 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6" descr=""/>
          <p:cNvPicPr/>
          <p:nvPr/>
        </p:nvPicPr>
        <p:blipFill>
          <a:blip r:embed="rId1"/>
          <a:stretch/>
        </p:blipFill>
        <p:spPr>
          <a:xfrm>
            <a:off x="1536840" y="2236680"/>
            <a:ext cx="96804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53920" y="333360"/>
            <a:ext cx="105156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Давайте, посмотрим, на его работы и поймём, что такое пропорция Леонардо да Винч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Содержимое 3" descr="image031"/>
          <p:cNvPicPr/>
          <p:nvPr/>
        </p:nvPicPr>
        <p:blipFill>
          <a:blip r:embed="rId1"/>
          <a:stretch/>
        </p:blipFill>
        <p:spPr>
          <a:xfrm>
            <a:off x="320760" y="1909800"/>
            <a:ext cx="116139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tumen.bezformata.ru/content/image67553958.jpg"/>
          <p:cNvPicPr/>
          <p:nvPr/>
        </p:nvPicPr>
        <p:blipFill>
          <a:blip r:embed="rId1"/>
          <a:stretch/>
        </p:blipFill>
        <p:spPr>
          <a:xfrm>
            <a:off x="1971720" y="271440"/>
            <a:ext cx="8550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n_6scH-G6CU" descr=""/>
          <p:cNvPicPr/>
          <p:nvPr/>
        </p:nvPicPr>
        <p:blipFill>
          <a:blip r:embed="rId1"/>
          <a:stretch/>
        </p:blipFill>
        <p:spPr>
          <a:xfrm>
            <a:off x="249120" y="125280"/>
            <a:ext cx="11673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Золотое сечение было известно с древних времён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Содержимое 3" descr="images (4)"/>
          <p:cNvPicPr/>
          <p:nvPr/>
        </p:nvPicPr>
        <p:blipFill>
          <a:blip r:embed="rId1"/>
          <a:stretch/>
        </p:blipFill>
        <p:spPr>
          <a:xfrm>
            <a:off x="223920" y="1781280"/>
            <a:ext cx="5438520" cy="4667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iko6"/>
          <p:cNvPicPr/>
          <p:nvPr/>
        </p:nvPicPr>
        <p:blipFill>
          <a:blip r:embed="rId2"/>
          <a:stretch/>
        </p:blipFill>
        <p:spPr>
          <a:xfrm>
            <a:off x="6448320" y="2214720"/>
            <a:ext cx="53755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ботая над проектом, мы провели личное исследование. «Золотое сечение» в изобразительном искусстве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336240"/>
            <a:ext cx="10515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лотая пропорция встречается в конфигурации растений и минералов, строении частей Вселенной, музыкальном звукоряде. Она отражает глобальные принципы природы, проникая во все уровни организации живых и неживых объектов. Её используют в архитектуре, скульптуре, живописи, науки, вычислительной технике, при проектировании предметов бы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ath-prosto.ru/?page=pages/reports/gold_section.p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xreferat.com/10/799-1-zolotoe-sechenie-odno-iz-yarkih-proyavleniiy-garmonichnosti-v-prirod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s://docs.google.com/viewerng/viewer?url=http://pedportal.net/attachments/001/152/509/1152509.ppt?1439679765&amp;a=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2762280" y="2610000"/>
            <a:ext cx="73389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ктуальност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28480" y="1234800"/>
            <a:ext cx="81504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лотое сечение, безусловно, можно назвать «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ожественной пропорц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. Золотая пропорция окружает нас, приводит научные доказательства распространенности его в солнечной системе. Кроме того, события, происходящие с нами, тоже происходят согласно золотой пропорции, золотому сеч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йдя курс математики за 6 класс, на страницах учебника мы могли наблюдать следующую картину, на которой было обозначено Золотое сечение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Страница 145 | Учебник Математика 6 класс Н.Я. Виленкин, В.И. Жохов, А.С. Чесноков, С.И. Шварцбурд 2013"/>
          <p:cNvPicPr/>
          <p:nvPr/>
        </p:nvPicPr>
        <p:blipFill>
          <a:blip r:embed="rId1"/>
          <a:srcRect l="9312" t="55872" r="56182" b="12680"/>
          <a:stretch/>
        </p:blipFill>
        <p:spPr>
          <a:xfrm>
            <a:off x="8823240" y="1525680"/>
            <a:ext cx="33688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6240" y="433440"/>
            <a:ext cx="11017080" cy="57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анной работы лежит изучение понятия «Золотого сечения»и применении его в работах Леонардо да Вин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Изучить  понятие «Золотого сечени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Изучить  известные картины Леонарда да Вин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Провести  опрос в 5-11 классах. Сделать статистику и определенные выво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Применить полученные знания на практике, нарисовав картину на основе золотого сеч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Золотое сечение.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Бесконечный ряд после запятой — 1,6180339887...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Содержимое 3" descr="Золотое сечение"/>
          <p:cNvPicPr/>
          <p:nvPr/>
        </p:nvPicPr>
        <p:blipFill>
          <a:blip r:embed="rId1"/>
          <a:stretch/>
        </p:blipFill>
        <p:spPr>
          <a:xfrm>
            <a:off x="0" y="1539720"/>
            <a:ext cx="7940520" cy="5318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Отношение золотого сечения"/>
          <p:cNvPicPr/>
          <p:nvPr/>
        </p:nvPicPr>
        <p:blipFill>
          <a:blip r:embed="rId2"/>
          <a:stretch/>
        </p:blipFill>
        <p:spPr>
          <a:xfrm>
            <a:off x="8647200" y="2583000"/>
            <a:ext cx="27907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637080" y="0"/>
            <a:ext cx="77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онардо да Винчи (1445-1510) Человек, художник, учё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78571"/>
          <p:cNvPicPr/>
          <p:nvPr/>
        </p:nvPicPr>
        <p:blipFill>
          <a:blip r:embed="rId1"/>
          <a:stretch/>
        </p:blipFill>
        <p:spPr>
          <a:xfrm>
            <a:off x="233280" y="1432080"/>
            <a:ext cx="3038400" cy="52257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3898800" y="1757520"/>
            <a:ext cx="77961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адочный Леонардо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е 500 лет Человечество поражается его исследованиям и изобретениям в архитектуре, механике и естественных науках, на много веков опередившим его врем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удожник, создавший такую улыбку Моны Лизы, что только сейчас учёные разгадали этот эффек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много и как мало он успел! Почему, трудясь всю жизнь, оставил столько незавершённого? Каким человеком он был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мотря на прошедшие пять веков, сохранились дневники и рукописи самого Леонардо да Винчи и его современников, жизнеописание Вазари, а также многочисленные труды учёных и искусствове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633240" y="0"/>
            <a:ext cx="1075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Monotype Corsiva"/>
                <a:ea typeface="Calibri"/>
              </a:rPr>
              <a:t>Пропорции человеческого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Monotype Corsiva"/>
                <a:ea typeface="Calibri"/>
              </a:rPr>
              <a:t>1490г, ручка, чернила и акварель на пластине (metalpoint), 344</a:t>
            </a:r>
            <a:r>
              <a:rPr b="1" i="1" lang="en-US" sz="2400" spc="-1" strike="noStrike">
                <a:solidFill>
                  <a:srgbClr val="7030a0"/>
                </a:solidFill>
                <a:latin typeface="Monotype Corsiva"/>
                <a:ea typeface="Calibri"/>
              </a:rPr>
              <a:t>x</a:t>
            </a:r>
            <a:r>
              <a:rPr b="1" i="1" lang="ru-RU" sz="2400" spc="-1" strike="noStrike">
                <a:solidFill>
                  <a:srgbClr val="7030a0"/>
                </a:solidFill>
                <a:latin typeface="Monotype Corsiva"/>
                <a:ea typeface="Calibri"/>
              </a:rPr>
              <a:t>245 м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Monotype Corsiva"/>
                <a:ea typeface="Calibri"/>
              </a:rPr>
              <a:t>Галерея</a:t>
            </a:r>
            <a:r>
              <a:rPr b="1" i="1" lang="en-US" sz="2400" spc="-1" strike="noStrike">
                <a:solidFill>
                  <a:srgbClr val="7030a0"/>
                </a:solidFill>
                <a:latin typeface="Monotype Corsiva"/>
                <a:ea typeface="Calibri"/>
              </a:rPr>
              <a:t> (Gallerie del Accademia), </a:t>
            </a:r>
            <a:r>
              <a:rPr b="1" i="1" lang="ru-RU" sz="2400" spc="-1" strike="noStrike">
                <a:solidFill>
                  <a:srgbClr val="7030a0"/>
                </a:solidFill>
                <a:latin typeface="Monotype Corsiva"/>
                <a:ea typeface="Calibri"/>
              </a:rPr>
              <a:t>Вене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633240" y="2181240"/>
            <a:ext cx="1075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апреле 1489 Леонардо да Винчи начал книгу о Человеке. В связи с этим книжным проектом, (который не был окончен) - он систематически изучал двух молодых людей и сравнил результаты замеров и соотношения размеров разных частей тела с единственной тогда старой теорией размеров -  теорией Витрувиаса (Vitruvias). Витрувиас, довольно известный архитектор и инженер в Римской империи, написали трактат по архитектуре, треть которого состояла из описания размеров и пропорций тела. Он доказывал, что человеческая фигура, с протянутыми руками и вытянутыми ногами, впишется в квадрат и круг (правильные геометрические фигуры) и, тогда, геометрический центр человеческого тела совпадет с пуп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Содержимое 3" descr="да винчи.jpg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4716360" y="151920"/>
            <a:ext cx="7475760" cy="67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рода распорядилась в строении человеческого тела следующими пропорциями: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на четырёх пальцев равна длине ладони,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ыре ладони равны стопе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шесть ладоней составляют один локоть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ыре локтя - рост человека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ыре локтя равны шагу, а двадцать четыре ладони равны росту человека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ы расставите ноги так, чтобы расстояние между ними равнялось 1/14 человеческого роста, и поднимите руки таким образом, чтобы средние пальцы оказались на уровне макушки, то центральной точкой тела, равноудаленной от всех конечностей, будет ваш пупок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ранство между расставленными ногами и полом образует равносторонний треугольник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на вытянутых рук будет равна росту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от корней волос до кончика подбородка равно одной десятой человеческого роста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от верхней части груди до макушки составляет 1/6 роста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же от верхней части груди до корней волос - 1/7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от сосков до макушки составляет ровно четверть роста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ибольшая ширина плеч - восьмая часть роста.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от локтя до кончиков пальцев - 1/5 роста, от локтя до подмышечной ямки - 1/8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на всей руки - это 1/10 роста.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ало гениталий находится как раз посредине тела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па - 1/7 часть роста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от мыска ноги до коленной чашечки равно четверти роста, а расстояние от коленной чашечки до начала гениталий также равно четверти роста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от кончика подбородка до носа и от корней волос до бровей будет одинаково и, подобно длине уха, равно 1/3 лиц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.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199400" y="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Monotype Corsiva"/>
                <a:ea typeface="Calibri"/>
              </a:rPr>
              <a:t>Мона Лиза (Джокон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4443480" y="801720"/>
            <a:ext cx="70419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1514 - 1515 гг. относится создание шедевра великого мастера — «Джоконды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последнего времени думали, что этот портрет был написан гораздо раньше, во Флоренции, около 1503 г. Верили рассказу Вазари, который писал: «Взялся Леонардо выполнить для Франческо дель Джоконде портрет Моны Лизы, жены его, и, потрудившись над ним четыре года, оставил его недовершенным. Это произведение находится ныне у французского короля в Фонтенебло. Между прочим, Леонардо прибег к следующему приему: так как мадонна Лиза была очень красива, то во время писания портрета он держал людей, которые играли на лире или пели, и тут постоянно были шуты, поддерживавшие в ней веселость и удалявшие меланхолию, которую обычно сообщает живопись выполняемым портретам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скачанные файлы"/>
          <p:cNvPicPr/>
          <p:nvPr/>
        </p:nvPicPr>
        <p:blipFill>
          <a:blip r:embed="rId1"/>
          <a:stretch/>
        </p:blipFill>
        <p:spPr>
          <a:xfrm>
            <a:off x="0" y="625320"/>
            <a:ext cx="42991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Содержимое 3" descr="FyeGwug_2Ds.jpg"/>
          <p:cNvPicPr/>
          <p:nvPr/>
        </p:nvPicPr>
        <p:blipFill>
          <a:blip r:embed="rId1"/>
          <a:stretch/>
        </p:blipFill>
        <p:spPr>
          <a:xfrm>
            <a:off x="5727600" y="0"/>
            <a:ext cx="6464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1783800"/>
            <a:ext cx="5727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тикальная композици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-2/2-3 = 1,615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– 4 : 4 – 5 = 1,508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изонтальная композици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9-10 / 7-8 = 1,625; 13-14 / 11-12 = 1,603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еднее отклонение от φ равно 2,0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9:46:43Z</dcterms:created>
  <dc:creator>Дашка,Димка и Тимурка Пуцейко</dc:creator>
  <dc:description/>
  <dc:language>en-US</dc:language>
  <cp:lastModifiedBy>Учитель</cp:lastModifiedBy>
  <dcterms:modified xsi:type="dcterms:W3CDTF">2002-01-08T07:53:40Z</dcterms:modified>
  <cp:revision>20</cp:revision>
  <dc:subject/>
  <dc:title>Презентация PowerPoint</dc:title>
</cp:coreProperties>
</file>